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5.jpeg" ContentType="image/jpeg"/>
  <Override PartName="/ppt/media/image6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B4EF2C5-1A5B-42D6-A06A-48250907F52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5484200-67D6-4D00-8C1D-71B84CBF811A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B52AA35-A260-4930-A9F1-3B0F99E4733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to modify this powerpoint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imple diffusion vs. facilitated diffu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cell membrane stuf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electively permeabl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equilibrium and concentration gradi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define isotonic, hypertonic, hypot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active 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jenn nemec’s chart to go along with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3DB124C-EA41-4965-A751-45CDB3D27A47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947E40C-06CC-4739-9413-F8075C73CB2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91B9DE0-8E75-4BAD-8012-EF2EFB04C779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32C470D-42EB-4028-AFF5-3B8F2B34099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80505FB-8952-4FA5-ACEA-B3E32F615BA9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124B6DF-0646-42A7-BA2D-896B921EE8F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84AF4BB-22DC-4EE0-90EF-DFB3C14C3B1F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AE3C244-06A8-40A6-9574-8CCA9DA3F1A5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A25F31C-8DDD-4940-89E2-E364D5BEC97F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7D3D5EA-9C81-4DF1-9ADA-EEA202125E46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D268D29-7437-48F8-847F-66F13934CA88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8FC88D4-E1C5-4B8A-A8EF-9CD5B8AF3AB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6CC86B6-C722-4FE1-B1BD-227B3D54A5F1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CE6E8EB-128C-49CC-A1DF-2FC680469625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52EE7C6-9405-43E1-B620-8C400299100B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669255A-FE7B-4EC3-9CE0-1B3C996D0B4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192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9080" y="4416120"/>
            <a:ext cx="50436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877-B90A-4AD9-A10A-78A6585A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7DD-8943-49CA-AB28-EE4FE4EE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C91-9C25-4B8B-A86D-5B6B2346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AC8-2589-46C2-B85F-CE0B69FD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B6D-601C-4641-A7F0-03F607A1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7B3-8595-4307-8AB3-764F9E5C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D98-4B55-4B62-BE60-FEAF958D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E3E-D353-412F-B33E-6BA5EB6A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583-B2B6-490A-926D-C2270D51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57E-E3A9-42C4-9129-6E356A37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264-54EB-47EE-BE52-21CC1FF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762-AB9D-4051-B3D3-4B13457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00F-4AE2-4C2B-A95A-73DC89125A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../../../Downloaded%20Videos/Diffusion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../../Downloaded%20Videos/facilitated%20diffusion.avi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file:///../../../Downloaded%20Videos/Osmosis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../../../Downloaded%20Videos/Onion%20Cells%20Plasmolysis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hyperlink" Target="file:///../../../Downloaded%20Videos/Fluid%20mosiac%20model.avi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3253-061A-45E4-9462-47D12B5181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Trans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of the Cell Membr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what enters and leaves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protection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Transition…AHHHH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seem completely rando…but I promise the dots will connect late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olution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of sol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giv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of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in concentration over a distance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4F8-AFDB-48A7-A188-1A7DCA875A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Descrip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from area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t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nt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y are go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(no energy requir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028" descr="diffusion-animated[1]"/>
          <p:cNvPicPr/>
          <p:nvPr/>
        </p:nvPicPr>
        <p:blipFill>
          <a:blip r:embed="rId1"/>
          <a:stretch/>
        </p:blipFill>
        <p:spPr>
          <a:xfrm>
            <a:off x="4876920" y="2362320"/>
            <a:ext cx="38192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C046-3153-4AAF-8EBF-ADBA3D8F81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4" descr="FG05_04"/>
          <p:cNvPicPr/>
          <p:nvPr/>
        </p:nvPicPr>
        <p:blipFill>
          <a:blip r:embed="rId1"/>
          <a:srcRect l="4618" t="0" r="0" b="7397"/>
          <a:stretch/>
        </p:blipFill>
        <p:spPr>
          <a:xfrm>
            <a:off x="380880" y="4572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610280" y="5761080"/>
            <a:ext cx="576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ple Diffusion of a Solute Across a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02B3-040C-42DF-AF6D-DF804F3D29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673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all solutes cross the membrane by simple diffus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means only certain solutes (typically small ones) can pass across by simple diff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olution? – Channel Protei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0E76-4807-4BB3-8E8A-34132DD6FB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certain molecules throug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made possible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rotein chan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http://bio1151b.nicerweb.com/Locked/media/ch07/07_15FacilitatedDiffusionA.jpg"/>
          <p:cNvPicPr/>
          <p:nvPr/>
        </p:nvPicPr>
        <p:blipFill>
          <a:blip r:embed="rId1"/>
          <a:stretch/>
        </p:blipFill>
        <p:spPr>
          <a:xfrm>
            <a:off x="3200400" y="4114800"/>
            <a:ext cx="5495760" cy="2378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41360" y="4160880"/>
            <a:ext cx="237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facilitated diffusion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C81E-0596-48CC-BD59-1BE37DDB11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Description: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u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cross a selectively permeable membra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WN GRAD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hat is, WATER moves down its gradien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3" descr="osmosis"/>
          <p:cNvPicPr/>
          <p:nvPr/>
        </p:nvPicPr>
        <p:blipFill>
          <a:blip r:embed="rId1"/>
          <a:stretch/>
        </p:blipFill>
        <p:spPr>
          <a:xfrm>
            <a:off x="4419720" y="3581280"/>
            <a:ext cx="4038480" cy="3054600"/>
          </a:xfrm>
          <a:prstGeom prst="rect">
            <a:avLst/>
          </a:prstGeom>
          <a:ln w="0">
            <a:noFill/>
          </a:ln>
        </p:spPr>
      </p:pic>
      <p:sp>
        <p:nvSpPr>
          <p:cNvPr id="112" name="Line 5"/>
          <p:cNvSpPr/>
          <p:nvPr/>
        </p:nvSpPr>
        <p:spPr>
          <a:xfrm>
            <a:off x="5181480" y="51055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93640" y="4008600"/>
            <a:ext cx="32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Osm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762120" y="1447920"/>
            <a:ext cx="579096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066680" y="182880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819520" y="38098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is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160020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505320" y="1752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6553080" y="236232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AME solute (and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the end of today’s lesson, you should be able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cell membrane and what do they 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“Fluid Mosaic Model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es of diffusion, osmosis, facilitated diffusion, and active transpo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A43-3756-4193-AB5B-6F2392906F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8600" y="1447920"/>
            <a:ext cx="5791320" cy="403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16765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4382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7200" y="1676520"/>
            <a:ext cx="2133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209680" y="36576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0666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297180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6095880" y="18288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OWER solute (HIGH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28A5-C73D-430B-B19F-E18D5A4425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28600" y="1523880"/>
            <a:ext cx="5791320" cy="4038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828800" y="2743200"/>
            <a:ext cx="304812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6880" y="3124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0880" y="1828800"/>
            <a:ext cx="2133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solu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438280" y="38098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% solu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5% 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14400" y="5791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rection of water move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28954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6248520" y="19051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utside the cell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IGHER solute (LOWER water) concent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the cell itsel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0" descr="15_009[1]"/>
          <p:cNvPicPr/>
          <p:nvPr/>
        </p:nvPicPr>
        <p:blipFill>
          <a:blip r:embed="rId1"/>
          <a:srcRect l="0" t="42671" r="0" b="21332"/>
          <a:stretch/>
        </p:blipFill>
        <p:spPr>
          <a:xfrm>
            <a:off x="609480" y="609480"/>
            <a:ext cx="8001000" cy="2057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106668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990720" y="4038480"/>
            <a:ext cx="2971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T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equal amounts entering &amp; leaving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191120" y="2971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886200" y="2971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1911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Burs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629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47712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hrink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2438280" y="3429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5029200" y="3886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7467480" y="37339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6477120" y="5105520"/>
            <a:ext cx="222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..\..\..\Downloaded Videos\Onion Cells Plasmolysis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4098960" y="5151600"/>
            <a:ext cx="1616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Hypo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6477120" y="5943600"/>
            <a:ext cx="237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.\..\..\Downloaded Videos\Red Blood Cells in a Hypertonic Solution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8E01-B1BE-492F-AB1E-8A77F0D8B2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mosis in Red Blood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image004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3584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762120" y="5638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657600" y="5715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00800" y="5638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 in Plant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99"/>
                </a:solidFill>
                <a:latin typeface="Arial"/>
              </a:rPr>
              <a:t>Description</a:t>
            </a:r>
            <a:r>
              <a:rPr b="0" lang="en-US" sz="4000" spc="-1" strike="noStrike">
                <a:solidFill>
                  <a:srgbClr val="262699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ment of materials fro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G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ss (uses energ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523960" cy="4724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ve Trans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lecular Pum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400800" y="495288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457200" y="144792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Molecular pum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membrane proteins that use energy fro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move molecules across cell membranes.  (Each pump moves one type of molecul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69960" y="59896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.\..\..\Downloaded Videos\Active Transport.av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docytosis vs. 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nd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ing large amounts of material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x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nding large amounts of material out of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72A-8C39-4179-9486-9AD9D319CB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docytosi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hagocytosis &amp; Pinocyto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380880" y="1447920"/>
            <a:ext cx="4496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hagocytos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embrane folds to enclose solid particle (cell eating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inocyt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e membrane folds to enclose liquid with dissolved materials (cell drink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29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438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8377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endocytosis, the membrane pinches in to form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esi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sicle may later join with a lysosome so that particles can be “digested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536B-42A4-4272-AEBA-0B4DCF6147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3438360" cy="5219640"/>
          </a:xfrm>
          <a:prstGeom prst="rect">
            <a:avLst/>
          </a:prstGeom>
          <a:ln w="0">
            <a:noFill/>
          </a:ln>
        </p:spPr>
      </p:pic>
      <p:cxnSp>
        <p:nvCxnSpPr>
          <p:cNvPr id="195" name="Straight Arrow Connector 7"/>
          <p:cNvCxnSpPr/>
          <p:nvPr/>
        </p:nvCxnSpPr>
        <p:spPr>
          <a:xfrm flipH="1" flipV="1">
            <a:off x="6705000" y="2361600"/>
            <a:ext cx="1067400" cy="114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8"/>
          <p:cNvCxnSpPr/>
          <p:nvPr/>
        </p:nvCxnSpPr>
        <p:spPr>
          <a:xfrm flipH="1">
            <a:off x="6933960" y="4038480"/>
            <a:ext cx="762480" cy="99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Box 12"/>
          <p:cNvSpPr/>
          <p:nvPr/>
        </p:nvSpPr>
        <p:spPr>
          <a:xfrm>
            <a:off x="7697520" y="3581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sic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B2EA-81C3-4DE8-95C1-E0A46756C2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714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52280" y="1295280"/>
            <a:ext cx="42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ulates passage of materials into and out of the ce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s of the membrane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 lipid bilayer (2 laye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 prote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 choleste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 carbohydrate cha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5124600" y="1108080"/>
            <a:ext cx="4019400" cy="5257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6"/>
          <p:cNvSpPr/>
          <p:nvPr/>
        </p:nvSpPr>
        <p:spPr>
          <a:xfrm>
            <a:off x="4385160" y="12114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152280" y="152388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ducts of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re packaged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vesicl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olg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released at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ell membr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5040" y="44658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.\..\..\Downloaded Videos\Endocytosis &amp; Exocytosis.av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Membrane and Homeosta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from Characteristics of Life…wha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meost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organisms to maintain homeostasis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pid Bilay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de of 2 sheets of phospholipids, a type of lipid with a head and 2 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ilic (water loving) h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drophobic (water fearing) t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BDD-8EB4-43A4-ADA5-F6D4201AF2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2" descr="http://chemwiki.ucdavis.edu/@api/deki/files/5716/=phospholipid.jpg"/>
          <p:cNvPicPr/>
          <p:nvPr/>
        </p:nvPicPr>
        <p:blipFill>
          <a:blip r:embed="rId1"/>
          <a:stretch/>
        </p:blipFill>
        <p:spPr>
          <a:xfrm>
            <a:off x="5257800" y="2286000"/>
            <a:ext cx="35053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do the phospholipids arrange themselves in a bilaye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83EC-748C-49C0-8C7C-9C90FAEE8D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2" descr="http://d2o7bfz2il9cb7.cloudfront.net/main-qimg-59ecc5a50b981e1bc2f85632b5e94cce"/>
          <p:cNvPicPr/>
          <p:nvPr/>
        </p:nvPicPr>
        <p:blipFill>
          <a:blip r:embed="rId1"/>
          <a:stretch/>
        </p:blipFill>
        <p:spPr>
          <a:xfrm>
            <a:off x="1828800" y="1905120"/>
            <a:ext cx="51814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mbrane Proteins: Act as channels for large particles to enter and leave the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uid-Mosaic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describes the flexibility of the lipid bilayer with a mosaic of proteins and other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C827-54E1-4981-AABA-38336FC365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9" name="Picture 2" descr="http://www.biologycorner.com/resources/cell_membrane_channel1.jpg"/>
          <p:cNvPicPr/>
          <p:nvPr/>
        </p:nvPicPr>
        <p:blipFill>
          <a:blip r:embed="rId1"/>
          <a:stretch/>
        </p:blipFill>
        <p:spPr>
          <a:xfrm>
            <a:off x="6172200" y="533520"/>
            <a:ext cx="2571840" cy="240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library.thinkquest.org/C004535/media/cell_membrane.gif"/>
          <p:cNvPicPr/>
          <p:nvPr/>
        </p:nvPicPr>
        <p:blipFill>
          <a:blip r:embed="rId2"/>
          <a:stretch/>
        </p:blipFill>
        <p:spPr>
          <a:xfrm>
            <a:off x="5334120" y="3276720"/>
            <a:ext cx="3476520" cy="2647800"/>
          </a:xfrm>
          <a:prstGeom prst="rect">
            <a:avLst/>
          </a:prstGeom>
          <a:ln w="0">
            <a:noFill/>
          </a:ln>
        </p:spPr>
      </p:pic>
      <p:sp>
        <p:nvSpPr>
          <p:cNvPr id="71" name="Oval 9"/>
          <p:cNvSpPr/>
          <p:nvPr/>
        </p:nvSpPr>
        <p:spPr>
          <a:xfrm>
            <a:off x="5715000" y="4191120"/>
            <a:ext cx="9144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858000" y="1143000"/>
            <a:ext cx="1143000" cy="1752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Straight Connector 12"/>
          <p:cNvSpPr/>
          <p:nvPr/>
        </p:nvSpPr>
        <p:spPr>
          <a:xfrm flipV="1">
            <a:off x="6172200" y="2743200"/>
            <a:ext cx="9907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4" descr="http://www.charlsiekelly.com/images/fish_mosaic_sm.jpg"/>
          <p:cNvPicPr/>
          <p:nvPr/>
        </p:nvPicPr>
        <p:blipFill>
          <a:blip r:embed="rId3"/>
          <a:stretch/>
        </p:blipFill>
        <p:spPr>
          <a:xfrm>
            <a:off x="533520" y="3581280"/>
            <a:ext cx="3276360" cy="2459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3870360" y="6066000"/>
            <a:ext cx="3825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.\..\..\Downloaded Videos\Fluid mosiac model.avi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Cha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parts of molecules to determine what molecules can be brought into the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ttached to proteins or phospholip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 and Key F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0766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 the Parts of the Membran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lipi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 Ch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http://library.thinkquest.org/C004535/media/cell_membrane.gif"/>
          <p:cNvPicPr/>
          <p:nvPr/>
        </p:nvPicPr>
        <p:blipFill>
          <a:blip r:embed="rId1"/>
          <a:stretch/>
        </p:blipFill>
        <p:spPr>
          <a:xfrm>
            <a:off x="2514600" y="3276720"/>
            <a:ext cx="647712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23:07:55Z</dcterms:created>
  <dc:creator>Cheryl Massengale</dc:creator>
  <dc:description/>
  <dc:language>en-US</dc:language>
  <cp:lastModifiedBy>Windows User</cp:lastModifiedBy>
  <cp:lastPrinted>2005-11-21T16:13:08Z</cp:lastPrinted>
  <dcterms:modified xsi:type="dcterms:W3CDTF">2014-11-05T19:24:53Z</dcterms:modified>
  <cp:revision>161</cp:revision>
  <dc:subject/>
  <dc:title>Plasma Membrane</dc:title>
</cp:coreProperties>
</file>